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mmburger%5B1%5D.wav" ContentType="audio/x-wav"/>
  <Override PartName="/ppt/media/applause.wav" ContentType="audio/x-wav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491F-28B7-440F-A344-F7499712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8224-F505-41AE-96D8-8D7D24F5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25C0-1A24-40CB-B282-3EEFCCB9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26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744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108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26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744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CB67-0AEC-4E18-BBE6-B99063FD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D9DA-F5A5-4732-9A3B-F8CF030D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A042-5C49-4613-A893-A1696F76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BDB9-8339-446B-B91A-2287041B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893E-DF9B-4939-BFEA-E76100E5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80DF-92C9-4539-BBC3-D8453C11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28440" y="1523520"/>
            <a:ext cx="6095880" cy="87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470C-D5B8-498F-B5A8-F5E724FF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278D-75E3-456E-B6D4-C316FC2A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9C06-A308-417B-9243-A28E3B87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6304-E3CF-4494-8F36-6784E98A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7BE4-63D5-4761-8137-624E6BEC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6874-8A65-4B16-9661-1D77C009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90A1-FC3A-4810-970E-391B604B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926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744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9108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926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744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3F36-BB3A-4C1E-8587-85F3698F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C5F3-BA46-4DB9-ABDD-57690379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A82F-FF83-409B-99D9-984821B6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92EF-2D4E-4B0F-978B-15FEB2CB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440" y="1523520"/>
            <a:ext cx="6095880" cy="87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77AE-DD2C-4E6B-93DD-60E6FD26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152C-EE1C-419A-9B68-269A78BB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84BD-4E70-43C4-AE02-A23C2915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A344-1604-4C6E-9C0C-3EC2E6C1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CA8A-CFE5-4DC7-8C3B-77CA7F621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5C68-974B-40F7-8D65-22827149D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mmburger%5B1%5D.wav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76320" y="533520"/>
            <a:ext cx="5515200" cy="28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How To Do</a:t>
            </a:r>
            <a:endParaRPr b="0" lang="en-US" sz="24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An A. P. Euro.</a:t>
            </a:r>
            <a:endParaRPr b="0" lang="en-US" sz="24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2480" y="4191120"/>
            <a:ext cx="1219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nda"/>
              </a:rPr>
              <a:t>D</a:t>
            </a:r>
            <a:endParaRPr b="0" lang="en-US" sz="24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038480" y="4191120"/>
            <a:ext cx="1219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nda"/>
              </a:rPr>
              <a:t>B</a:t>
            </a:r>
            <a:endParaRPr b="0" lang="en-US" sz="24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324480" y="4191120"/>
            <a:ext cx="1219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nda"/>
              </a:rPr>
              <a:t>Q</a:t>
            </a:r>
            <a:endParaRPr b="0" lang="en-US" sz="24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438280" y="6010200"/>
            <a:ext cx="42674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9900"/>
                  </a:solidFill>
                  <a:miter/>
                </a:ln>
                <a:solidFill>
                  <a:srgbClr val="e02b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nda"/>
              </a:rPr>
              <a:t>Thanks to: Ms. Susan M. Pojer</a:t>
            </a:r>
            <a:endParaRPr b="0" lang="en-US" sz="2400" spc="1" strike="noStrike">
              <a:ln w="19080">
                <a:solidFill>
                  <a:srgbClr val="009900"/>
                </a:solidFill>
                <a:miter/>
              </a:ln>
              <a:solidFill>
                <a:srgbClr val="e02b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143000" y="30492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371600"/>
            <a:ext cx="85345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buClr>
                <a:srgbClr val="0099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Grouping of Docs. by Auth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you show an awareness that certain types of authors, simply by their authorship, will express similar views when you group docs. by type of auth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41306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02b00"/>
                </a:solidFill>
                <a:uFillTx/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648320"/>
            <a:ext cx="769644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PressWriter Symbol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As northern Renaissance humanists, 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  Erasmus, Sir Thomas More, and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  Cervantes all poked fun at the foibles and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  scandals of late medieval societ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066680" y="457200"/>
            <a:ext cx="67820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How to Reference a Document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in Your Essay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2286000"/>
            <a:ext cx="8382240" cy="40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2b00"/>
                </a:solidFill>
                <a:latin typeface="Comic Sans MS"/>
              </a:rPr>
              <a:t>Baldassare Castiglione, in </a:t>
            </a:r>
            <a:r>
              <a:rPr b="1" i="1" lang="en-US" sz="2800" spc="-1" strike="noStrike">
                <a:solidFill>
                  <a:srgbClr val="e02b00"/>
                </a:solidFill>
                <a:latin typeface="Comic Sans MS"/>
              </a:rPr>
              <a:t>The Handbook of the Courtier</a:t>
            </a: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, said:  “………………….”</a:t>
            </a:r>
            <a:br>
              <a:rPr sz="2800"/>
            </a:b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2b00"/>
                </a:solidFill>
                <a:latin typeface="Comic Sans MS"/>
              </a:rPr>
              <a:t>In document 5</a:t>
            </a: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, Erasmus of Rotterdam, a northern Christian humanist, agreed with…..</a:t>
            </a:r>
            <a:br>
              <a:rPr sz="2800"/>
            </a:b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The 19c historian, Jacob Burkhardt, felt that …………………. </a:t>
            </a:r>
            <a:r>
              <a:rPr b="1" lang="en-US" sz="2800" spc="-1" strike="noStrike">
                <a:solidFill>
                  <a:srgbClr val="e02b00"/>
                </a:solidFill>
                <a:latin typeface="Comic Sans MS"/>
              </a:rPr>
              <a:t>(Doc.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33520" y="304920"/>
            <a:ext cx="807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The Concluding Paragraph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3581280"/>
            <a:ext cx="3429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The “Bottom Bun” of your ess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It holds it all together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3-5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1523880"/>
            <a:ext cx="51055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Start with a “concluding phras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Restate your thesis statement a bit differ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Put your essay answer in a larger historical persp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3505320" cy="1062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495680" y="4662360"/>
            <a:ext cx="4648320" cy="17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e02b00"/>
              </a:buClr>
              <a:buFont typeface="PressWriter Symbol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End of some trend/movement/ide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e02b00"/>
              </a:buClr>
              <a:buFont typeface="PressWriter Symbol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eginning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e02b00"/>
              </a:buClr>
              <a:buFont typeface="PressWriter Symbol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End of one &amp; beginning of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85800" y="3049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Put It All Together And...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5716" t="3766" r="14288" b="44400"/>
          <a:stretch/>
        </p:blipFill>
        <p:spPr>
          <a:xfrm>
            <a:off x="2743200" y="1595520"/>
            <a:ext cx="3352680" cy="2214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666880" y="3629160"/>
            <a:ext cx="3810240" cy="2009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895480" y="5491080"/>
            <a:ext cx="3505320" cy="10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143000" y="457200"/>
            <a:ext cx="6705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Ummm...Burger!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1219320" y="5715000"/>
            <a:ext cx="6705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I Mean, "Dazzling" Essay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mburger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8080" y="457200"/>
            <a:ext cx="75438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Now,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"Dazzle" Me 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With Your Brilliance !!!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429000" y="3962520"/>
            <a:ext cx="2362320" cy="20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143000" y="457200"/>
            <a:ext cx="7010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A "Dazzling" D. B. Q. 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Is Like a Tasty Hamburger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2855" t="3329" r="5716" b="4203"/>
          <a:stretch/>
        </p:blipFill>
        <p:spPr>
          <a:xfrm>
            <a:off x="2514600" y="2362320"/>
            <a:ext cx="413856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3520" y="457200"/>
            <a:ext cx="807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The Introductory Paragraph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5716" t="3766" r="14288" b="44400"/>
          <a:stretch/>
        </p:blipFill>
        <p:spPr>
          <a:xfrm>
            <a:off x="380880" y="1828800"/>
            <a:ext cx="3353040" cy="2214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920" y="4191120"/>
            <a:ext cx="3429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The “Top Bun” of your essay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4-6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2362320"/>
            <a:ext cx="4800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Establish </a:t>
            </a:r>
            <a:r>
              <a:rPr b="1" lang="en-US" sz="2400" spc="-1" strike="noStrike" u="sng">
                <a:solidFill>
                  <a:srgbClr val="ff9933"/>
                </a:solidFill>
                <a:uFillTx/>
                <a:latin typeface="Comic Sans MS"/>
              </a:rPr>
              <a:t>TIME &amp; PLACE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reate a clear, </a:t>
            </a:r>
            <a:r>
              <a:rPr b="1" lang="en-US" sz="2400" spc="-1" strike="noStrike" u="sng">
                <a:solidFill>
                  <a:srgbClr val="ff9933"/>
                </a:solidFill>
                <a:uFillTx/>
                <a:latin typeface="Comic Sans MS"/>
              </a:rPr>
              <a:t>THESIS</a:t>
            </a:r>
            <a:br>
              <a:rPr sz="2400"/>
            </a:br>
            <a:r>
              <a:rPr b="1" lang="en-US" sz="2400" spc="-1" strike="noStrike" u="sng">
                <a:solidFill>
                  <a:srgbClr val="ff9933"/>
                </a:solidFill>
                <a:uFillTx/>
                <a:latin typeface="Comic Sans MS"/>
              </a:rPr>
              <a:t>STATEMENT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Allude to the </a:t>
            </a:r>
            <a:r>
              <a:rPr b="1" lang="en-US" sz="2400" spc="-1" strike="noStrike" u="sng">
                <a:solidFill>
                  <a:srgbClr val="ff9933"/>
                </a:solidFill>
                <a:uFillTx/>
                <a:latin typeface="Comic Sans MS"/>
              </a:rPr>
              <a:t>SUB-TOPICS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or categories you will discuss to support your thesis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" dur="1" fill="hold"/>
                                  <p:tgtEl>
                                    <p:spTgt spid="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33520" y="457200"/>
            <a:ext cx="807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The "Meat" Paragraph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4191120"/>
            <a:ext cx="3429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The “tasty” part of your essay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7-10 sentences+ per para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1523880"/>
            <a:ext cx="480060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Identify your sub-topic or category in the first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Include the documents that are relevant to support the ideas in the para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Be sure to indicate Point-of-View (POV) / Bias. </a:t>
            </a:r>
            <a:r>
              <a:rPr b="1" lang="en-US" sz="2400" spc="-1" strike="noStrike">
                <a:solidFill>
                  <a:srgbClr val="e02b00"/>
                </a:solidFill>
                <a:latin typeface="Comic Sans MS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Bring in supportive outsid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3809880" cy="2009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067360" y="6095880"/>
            <a:ext cx="36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2b00"/>
                </a:solidFill>
                <a:latin typeface="Comic Sans MS"/>
              </a:rPr>
              <a:t>*No “Laundry List”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143000" y="380880"/>
            <a:ext cx="67816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Demonstrating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Point of View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752480"/>
            <a:ext cx="78483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Attrib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Authorial point of vi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Reliability and accuracy of each source referen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Point out tone or intent of the document auth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Group the documents used by type of auth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8" dur="1" fill="hold"/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09480" y="1843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Attribution: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ite the author by name or position.</a:t>
            </a: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38240" y="3672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02b00"/>
                </a:solidFill>
                <a:uFillTx/>
                <a:latin typeface="Comic Sans MS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9040" y="4307040"/>
            <a:ext cx="68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PressWriter Symbol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John Tyler, an English writer, said: “...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38240" y="5043600"/>
            <a:ext cx="79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PressWriter Symbol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A Dominican monk in Florence described 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43000" y="38088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3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143000" y="30492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371600"/>
            <a:ext cx="861048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99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Authorial Point of View: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you show awareness that the gender, occupation, class, religion, nationality, political position or ethnic identity of the author could influence his/her view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44337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02b00"/>
                </a:solidFill>
                <a:uFillTx/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829040"/>
            <a:ext cx="769608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PressWriter Symbol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Balthasar Rusow, a Lutheran pastor, was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  naturally upset by the celebration of a 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  Saint’s Day since Lutherans don’t 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  venerate saint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7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143000" y="30492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447920"/>
            <a:ext cx="838188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buClr>
                <a:srgbClr val="0099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Reliability and accuracy of each source referenced:</a:t>
            </a: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you examine a source for its reliability and accuracy by questioning if the author of the doc. would be in a position to be accur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4267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02b00"/>
                </a:solidFill>
                <a:uFillTx/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724280"/>
            <a:ext cx="769608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PressWriter Symbol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Niccolo Machiavelli’s book on the political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  tactics of a Renaissance prince was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  probably accurate as he observed the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  behavior of Cesare Borgia for many year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143000" y="30492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nd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nda"/>
              <a:ea typeface="Honda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371600"/>
            <a:ext cx="85345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874"/>
              </a:spcBef>
              <a:buClr>
                <a:srgbClr val="0099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Tone or Intent of the Author</a:t>
            </a: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: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you examine the text of a doc. to determine its tone (satire, irony, indirect commentary, etc.) or the intent of the author. Esp. useful for visual doc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3962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02b00"/>
                </a:solidFill>
                <a:uFillTx/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4419720"/>
            <a:ext cx="7696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PressWriter Symbol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In his great sculpture of David, 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  Michelangelo wanted to convey the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  confidence, and even arrogance, of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  Renaissance Florence at the peak of its 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  cultural influence in 16c Europ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19:49:27Z</dcterms:created>
  <dc:creator>Susan M. Pojer</dc:creator>
  <dc:description/>
  <dc:language>en-US</dc:language>
  <cp:lastModifiedBy>Susan Gregory</cp:lastModifiedBy>
  <cp:lastPrinted>2007-11-19T06:40:43Z</cp:lastPrinted>
  <dcterms:modified xsi:type="dcterms:W3CDTF">2007-11-19T06:40:50Z</dcterms:modified>
  <cp:revision>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34324162</vt:r8>
  </property>
  <property fmtid="{D5CDD505-2E9C-101B-9397-08002B2CF9AE}" pid="3" name="_AuthorEmail">
    <vt:lpwstr>pedagog@optonline.net</vt:lpwstr>
  </property>
  <property fmtid="{D5CDD505-2E9C-101B-9397-08002B2CF9AE}" pid="4" name="_AuthorEmailDisplayName">
    <vt:lpwstr>smp</vt:lpwstr>
  </property>
  <property fmtid="{D5CDD505-2E9C-101B-9397-08002B2CF9AE}" pid="5" name="_EmailSubject">
    <vt:lpwstr>DBQ ppt</vt:lpwstr>
  </property>
</Properties>
</file>